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0BB6-6AA1-49D5-8FD2-E40E459AE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7648-122D-4CAF-9ADA-FE3BA87ED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1AFE-9669-463F-9542-485ED80DD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D233-DB00-425F-9E46-14A03B4BE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F206-9372-48A8-A618-7545248EB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8B08-47A5-4F51-B002-18BDBA3A7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7509-44C2-4149-9EF9-BF9EA3FE1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E932-D7A7-4BF1-B55D-C3753B09C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7B70-823F-4A13-A2D4-B107F4B95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9F2C-FE7E-47E9-9015-4313FA583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FDE0-536B-49FF-A65A-8A79501B0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4D2D-BCBF-4F94-9FE5-322134618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448EE-46EB-485A-BC63-8297F9E396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01480" y="914400"/>
            <a:ext cx="6032520" cy="7924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371600" y="1676520"/>
            <a:ext cx="4419720" cy="62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KidTYPEPaint"/>
              </a:rPr>
              <a:t>Dear Sant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KidTYPEPaint"/>
              </a:rPr>
              <a:t>I am 6 years old.  I like to play in the snow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KidTYPEPaint"/>
              </a:rPr>
              <a:t>Please bring me a new sled.  I also want a new pupp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KidTYPEPaint"/>
              </a:rPr>
              <a:t>I will leave you some cookies and a carrot for Rudolph the Red nosed Reinde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KidTYPEPaint"/>
              </a:rPr>
              <a:t>Lov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KidTYPEPaint"/>
              </a:rPr>
              <a:t>            </a:t>
            </a:r>
            <a:r>
              <a:rPr b="0" lang="en-US" sz="2000" spc="-1" strike="noStrike">
                <a:solidFill>
                  <a:srgbClr val="ff0000"/>
                </a:solidFill>
                <a:latin typeface="KidTYPEPaint"/>
              </a:rPr>
              <a:t>Suz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19:04:03Z</dcterms:created>
  <dc:creator>Patrick Mooney</dc:creator>
  <dc:description/>
  <dc:language>en-US</dc:language>
  <cp:lastModifiedBy>Patrick Mooney</cp:lastModifiedBy>
  <dcterms:modified xsi:type="dcterms:W3CDTF">2008-11-24T19:14:08Z</dcterms:modified>
  <cp:revision>2</cp:revision>
  <dc:subject/>
  <dc:title>Slide 1</dc:title>
</cp:coreProperties>
</file>